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4629-EEB7-41B7-AD38-FEBA32F30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24B1-0EBC-4935-B405-2EA6EAB13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616A-B7CD-4AC2-96A8-0138750A6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9C9D-DECE-465E-AFE1-3D2A91E937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4DFA-ED9D-44E0-82FD-AF4460288D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3FA5-D1BB-48B0-85C8-044F42E6A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CA00-6E89-4C16-BF71-3F10EED46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B814-E914-4AEE-860B-3EAB6C788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DC3A-9010-4AC4-BE98-D973CACD6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EFBE-EB9D-4409-835E-83205C768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C220C-CF98-4510-A1E3-926AE8777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27FD-658A-45E7-9962-A011CA7B0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B19D-0BEB-458D-9C29-EFD55D4BFB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DF31-EAD5-4839-B18B-ADB13FCE48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Deb W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Mary Fi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14400" y="1980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/contrast your predictions with the success criteria the students co-construct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26A5-F044-4832-9227-FC29ED5079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…revisit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discuss what you think students would identify as success criteria for the Cookie Problem once they have completed the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658A-3892-410C-A431-F83F71EF56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33920" y="3809880"/>
            <a:ext cx="4724280" cy="2133720"/>
          </a:xfrm>
          <a:prstGeom prst="cloudCallout">
            <a:avLst>
              <a:gd name="adj1" fmla="val -88912"/>
              <a:gd name="adj2" fmla="val -38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you change about your success criteria now that you have solved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Video…continued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look f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the students alter their success criteria they co-constructed before they did the problem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61D2-1F1F-41E6-AA37-45FAFF8572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/contrast your predictions with the student’s revised success criteri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3AEF-39D8-444E-ADC4-B1CDF67062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b5ca9"/>
                </a:solidFill>
                <a:latin typeface="Arial"/>
              </a:rPr>
              <a:t>Video…the math!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90B2-CCC2-4BAD-9C03-C24DFB0FB2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040" y="251424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responding in the mo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responding over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1341-BC82-4E5B-B449-1727555072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tudent Samples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320" y="20574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 the feedback you would provide to the  stud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8C2F-9100-4CBA-AC09-054D13F5C3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haring of feedback…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20574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 one student sample and team up with another pa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re your samples and the feedback you would provi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F983-223F-4F6F-90B4-D61C03FE11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more math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4920" y="2285640"/>
            <a:ext cx="6705720" cy="3505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is closer to a 1/2? 3/8 or 4/10? How do you k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304D-20E4-447B-89AC-20B8B8401A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more math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2640" y="1828440"/>
            <a:ext cx="6705720" cy="213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is closer to a 1/2? 3/8 or 4/10? How do you k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4ED8-CF28-4B14-8350-93BD24CA71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3505320" y="3429000"/>
            <a:ext cx="4495680" cy="2209680"/>
          </a:xfrm>
          <a:prstGeom prst="cloudCallout">
            <a:avLst>
              <a:gd name="adj1" fmla="val -87643"/>
              <a:gd name="adj2" fmla="val -28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ve the problem in at least two ways, noting possible student respon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 your responses with a partner and provide feedback to each o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A408-E82D-4768-900B-F7F4D47DE9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E:\Beach Images\Beach &amp; Water (A - B)\Beach Balls 1.wmf"/>
          <p:cNvPicPr/>
          <p:nvPr/>
        </p:nvPicPr>
        <p:blipFill>
          <a:blip r:embed="rId2"/>
          <a:stretch/>
        </p:blipFill>
        <p:spPr>
          <a:xfrm>
            <a:off x="2666880" y="1905120"/>
            <a:ext cx="36547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2285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5411-4176-49DA-A942-E6D5286EEC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040" y="18288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0000"/>
          </a:bodyPr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’ve been engaged in the math throughout this breakout we would like you to fill out the exit c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53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6645-2EDD-4D54-A703-AEF66B061D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Open Sort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e the statements in a way that make sense to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 your reaso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92A2-CF6A-45FF-9CC6-A248F669A5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Open Sort…continued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s the sorting template altered the organization of your statements in any way? Explai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6B72-9F4F-43E7-88B4-E40CD6237C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okie Recip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6CE3-F836-4B57-911F-5E330B7FBD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4343400" cy="32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pectations, Big Ideas,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 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133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compare your answers and discuss some of the different ways of solving this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expecta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Goa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BA1C-61F5-4BBE-A2D0-D94D98FE38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haring…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43000" y="26665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lesson goal(s) for the Cooki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EC8E-72CA-486C-945E-545E4DF209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discuss what you think students would identify as success criteria for the Cookie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ACED-116D-4239-8BB0-A42EC390D4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86200" y="4038480"/>
            <a:ext cx="3429000" cy="1676520"/>
          </a:xfrm>
          <a:prstGeom prst="cloudCallout">
            <a:avLst>
              <a:gd name="adj1" fmla="val -93842"/>
              <a:gd name="adj2" fmla="val -71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a good answer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look f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the students identify as evidence of a good answe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2707-AC4F-4500-9E3D-CA91BEED57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Mary</cp:lastModifiedBy>
  <dcterms:modified xsi:type="dcterms:W3CDTF">2011-08-08T18:16:32Z</dcterms:modified>
  <cp:revision>71</cp:revision>
  <dc:subject/>
  <dc:title>&lt;Title&gt;</dc:title>
</cp:coreProperties>
</file>